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670658"/>
        <c:axId val="30066708"/>
      </c:barChart>
      <c:catAx>
        <c:axId val="88670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66708"/>
        <c:crosses val="autoZero"/>
        <c:auto val="1"/>
        <c:lblAlgn val="ctr"/>
        <c:lblOffset val="100"/>
        <c:noMultiLvlLbl val="0"/>
      </c:catAx>
      <c:valAx>
        <c:axId val="30066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70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BC9-6356-42BE-8097-B83E49F1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C85-70B3-4077-96FA-DDBE150F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89D-278D-4D14-8B12-4F2DAB37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E9E-B23E-470F-9CFB-2065F308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6E1-E85E-482B-B424-73A7A60C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7B7E-BDDE-453D-B318-436C60AA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DFA-7E38-4DBD-BBF0-51738221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238-5D06-4B36-97A9-3A84B4CF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5BB-53C3-4C82-BC50-8C149F38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E6BA-51BF-434C-AB42-E5682402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84F-2881-44DE-B307-C5B7A43B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4868-4508-4D8F-8644-A24EA571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77EC0-7E57-46C2-9B58-B6DD6F7A58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