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49364"/>
        <c:axId val="58145990"/>
      </c:barChart>
      <c:catAx>
        <c:axId val="17949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45990"/>
        <c:crosses val="autoZero"/>
        <c:auto val="1"/>
        <c:lblAlgn val="ctr"/>
        <c:lblOffset val="100"/>
        <c:noMultiLvlLbl val="0"/>
      </c:catAx>
      <c:valAx>
        <c:axId val="58145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49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1E7-1898-47CE-99DD-05A279BC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B21-0B92-4FAA-970A-190E43FC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28B-042B-4EC6-AE52-BB8FA4AA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1F8-D557-4C52-A3CF-24BD351D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B5E-358F-480C-89BD-74EE3850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4ED-9CC2-43DC-A633-A1C69310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903-3681-4A25-968F-791EA46C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210-C2D8-427C-BB80-54C7B596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0AE-FA90-4D17-8E69-EF85C9A2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7EC-912A-4451-A459-586CF68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98B-7CDE-4DB4-A4D6-94E2F59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8AE-2BC7-4D42-BFB8-DC9A97D1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27F73-88EB-47B7-8A69-F5667E03AA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